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6D525-760F-4CB6-AC3A-26FDD4D870E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6C6C4-71C6-43B7-9C6A-DBF4585B8265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A17A1-5525-4E0E-AB33-35BDD59B23EF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66237-0FB7-40CF-811E-94F3D4427DAF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F0001-4388-4917-AAB8-EC2495FD3D93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76EA2-ABD7-4301-B37A-8632CAF1CBFD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EA226-C355-4319-8387-F7DF76314B82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B72EC-63EA-406E-BD84-6DE35DB49208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08CD3-1C35-4CCB-B881-E32245BB1121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2CBCA-15F5-4785-9FC4-89AF950F07D9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7DC7-928B-46AF-B043-0D5F101CE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EAA4-0A59-49A2-AE24-B9FB01084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8A55-95BE-43BB-8D15-B6A0D1C2A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861C-646B-46EB-8CBB-577180256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44BD-D8B2-4C19-806D-986D4F568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9B84-6503-433B-A9DE-B39B50933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082E-264E-46FD-9CE4-3D429B92C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D232-4751-4A9B-8FD4-7CB663F8C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6FCF-FEB1-478F-A3E3-9AA18FE43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142D-5049-4385-B2D6-9119AFA5F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AA27-13E8-4BCE-A0CA-2277B4F94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A268-CD44-4B2E-BEBC-9476765A8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D48DC-F72C-4ECA-AF28-A23565D4725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rcRect l="0" t="0" r="0" b="8146"/>
          <a:stretch/>
        </p:blipFill>
        <p:spPr>
          <a:xfrm>
            <a:off x="0" y="1077840"/>
            <a:ext cx="9144000" cy="57801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6600" y="277920"/>
            <a:ext cx="7930800" cy="760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-native-speaker’s map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2"/>
          <a:stretch/>
        </p:blipFill>
        <p:spPr>
          <a:xfrm>
            <a:off x="7623000" y="4430880"/>
            <a:ext cx="3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/>
          <a:srcRect l="0" t="0" r="0" b="8147"/>
          <a:stretch/>
        </p:blipFill>
        <p:spPr>
          <a:xfrm>
            <a:off x="3240" y="1014480"/>
            <a:ext cx="9140760" cy="58435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ive-speaker’s map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2"/>
          <a:stretch/>
        </p:blipFill>
        <p:spPr>
          <a:xfrm>
            <a:off x="7591320" y="4351320"/>
            <a:ext cx="31428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3" descr=""/>
          <p:cNvPicPr/>
          <p:nvPr/>
        </p:nvPicPr>
        <p:blipFill>
          <a:blip r:embed="rId1"/>
          <a:stretch/>
        </p:blipFill>
        <p:spPr>
          <a:xfrm>
            <a:off x="0" y="1033560"/>
            <a:ext cx="9144000" cy="578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"/>
          <p:cNvPicPr/>
          <p:nvPr/>
        </p:nvPicPr>
        <p:blipFill>
          <a:blip r:embed="rId2"/>
          <a:stretch/>
        </p:blipFill>
        <p:spPr>
          <a:xfrm>
            <a:off x="2976480" y="6037200"/>
            <a:ext cx="685800" cy="5079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"/>
          <p:cNvPicPr/>
          <p:nvPr/>
        </p:nvPicPr>
        <p:blipFill>
          <a:blip r:embed="rId3"/>
          <a:stretch/>
        </p:blipFill>
        <p:spPr>
          <a:xfrm>
            <a:off x="1263600" y="1860480"/>
            <a:ext cx="331920" cy="6098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4"/>
          <a:stretch/>
        </p:blipFill>
        <p:spPr>
          <a:xfrm>
            <a:off x="7419960" y="4824360"/>
            <a:ext cx="609480" cy="471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4" descr=""/>
          <p:cNvPicPr/>
          <p:nvPr/>
        </p:nvPicPr>
        <p:blipFill>
          <a:blip r:embed="rId5"/>
          <a:stretch/>
        </p:blipFill>
        <p:spPr>
          <a:xfrm>
            <a:off x="7623000" y="4383000"/>
            <a:ext cx="314640" cy="4572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6960" y="188640"/>
            <a:ext cx="8229600" cy="866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ison of Maps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native-speaker’s map only: blue. Native speaker’s map only: red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6600" y="277920"/>
            <a:ext cx="7930800" cy="684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Jea Sun (native Korean speaker)</a:t>
            </a:r>
            <a:br>
              <a:rPr sz="2400"/>
            </a:b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&amp; Judy (native English speaker):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300320"/>
            <a:ext cx="9144000" cy="55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JS: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 okaay judy, uh, you can start um the left side of the volcano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Judy: ohhkay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JS: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 okay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Judy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: from start to the volcano,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JS: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 yeah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6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Judy: [alright]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7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JS: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 [left] side of the volcano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8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Judy: okay,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9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JS: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 and then go straight, and turn right. ((pause)) so, you are in front of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 the volcano right now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10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Judy: okay,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11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JS: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 and just keep going and you can find… find the fffon, the waterr fo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12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Judy: the water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13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JS: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 yeah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14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Judy: okay,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15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JS: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 and then, you just pass the water fon and make a left turn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16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Judy: okay,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17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JS: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 annn just go straight? so you can see a plane, ((short pause)) right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 now? ((pause)) can you see a airplane,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18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Judy: a plane? [okay,]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19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JS: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  [yeah-hah.]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" dur="2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500" fill="hold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2000" fill="hold"/>
                                        <p:tgtEl>
                                          <p:spTgt spid="9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cc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" dur="500" fill="hold"/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cc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9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cc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6" descr=""/>
          <p:cNvPicPr/>
          <p:nvPr/>
        </p:nvPicPr>
        <p:blipFill>
          <a:blip r:embed="rId1"/>
          <a:srcRect l="0" t="0" r="0" b="8146"/>
          <a:stretch/>
        </p:blipFill>
        <p:spPr>
          <a:xfrm>
            <a:off x="0" y="1077840"/>
            <a:ext cx="9144000" cy="57801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6600" y="277920"/>
            <a:ext cx="7930800" cy="760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udy’s completed map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01" name="Picture 9" descr=""/>
          <p:cNvPicPr/>
          <p:nvPr/>
        </p:nvPicPr>
        <p:blipFill>
          <a:blip r:embed="rId2"/>
          <a:stretch/>
        </p:blipFill>
        <p:spPr>
          <a:xfrm>
            <a:off x="7623000" y="4430880"/>
            <a:ext cx="314640" cy="457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7" descr=""/>
          <p:cNvPicPr/>
          <p:nvPr/>
        </p:nvPicPr>
        <p:blipFill>
          <a:blip r:embed="rId3"/>
          <a:srcRect l="0" t="0" r="0" b="8147"/>
          <a:stretch/>
        </p:blipFill>
        <p:spPr>
          <a:xfrm>
            <a:off x="25560" y="1108080"/>
            <a:ext cx="9077040" cy="5749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56560" cy="811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Hyo Young (native Korean speaker)</a:t>
            </a:r>
            <a:br>
              <a:rPr sz="2400"/>
            </a:b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&amp; Sara (native English speaker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720" y="1018800"/>
            <a:ext cx="7562880" cy="58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Sara: okay, ((pause))  now where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HY: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((pause)) do you have a factory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Sara: nnno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HY: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okay. from there [((short pause)) (but)]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Sara: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  [is there] a factory there?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6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HY: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((short pause)) yeah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7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Sara: r- w- right where i stopped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8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HY: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(ani?) ((short pause)) noo no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9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Sara: no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10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HY: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=no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11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Sara: where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12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HY: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from there you go jus- ((short pause)) south,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13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Sara: well where where's the factory in relation to the hous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14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HY: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((pause)) house, ((pause)) virgil,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15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Sara: ((pause)) vulture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16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HY: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yeah. between them. it's factory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17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Sara: but it's like right there, like on that level,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18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HY: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no. it'ss level of castle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19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Sara: level of the castle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20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HY: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yeah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21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Sara: alright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" dur="500" fill="hold"/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5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cc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10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cc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" dur="500" fill="hold"/>
                                        <p:tgtEl>
                                          <p:spTgt spid="10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cc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cc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" dur="500" fill="hold"/>
                                        <p:tgtEl>
                                          <p:spTgt spid="10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cc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" dur="500"/>
                                        <p:tgtEl>
                                          <p:spTgt spid="10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" dur="250" autoRev="1" fill="hold"/>
                                        <p:tgtEl>
                                          <p:spTgt spid="10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"/>
          <p:cNvPicPr/>
          <p:nvPr/>
        </p:nvPicPr>
        <p:blipFill>
          <a:blip r:embed="rId1"/>
          <a:srcRect l="0" t="0" r="0" b="8146"/>
          <a:stretch/>
        </p:blipFill>
        <p:spPr>
          <a:xfrm>
            <a:off x="0" y="1077840"/>
            <a:ext cx="9144000" cy="57801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6600" y="277920"/>
            <a:ext cx="7930800" cy="760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ra’s completed map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2"/>
          <a:stretch/>
        </p:blipFill>
        <p:spPr>
          <a:xfrm>
            <a:off x="7623000" y="4430880"/>
            <a:ext cx="314640" cy="4572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"/>
          <p:cNvPicPr/>
          <p:nvPr/>
        </p:nvPicPr>
        <p:blipFill>
          <a:blip r:embed="rId3"/>
          <a:srcRect l="0" t="0" r="0" b="8147"/>
          <a:stretch/>
        </p:blipFill>
        <p:spPr>
          <a:xfrm>
            <a:off x="0" y="1057320"/>
            <a:ext cx="9077400" cy="5749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42800" y="-36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Hee Jin (native Korean speaker)</a:t>
            </a:r>
            <a:br>
              <a:rPr sz="2400"/>
            </a:b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&amp; Audrey (native English speaker):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771120"/>
            <a:ext cx="9144000" cy="60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140 Hee Jin: turn to the right? and can you see hospital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141 Audrey: uuhm the cross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142 Hee Jin: ((pause)) [yeah. cross,]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143 Audrey: </a:t>
            </a: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          [is it a cross] all the way on the other s- on the right side of</a:t>
            </a: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        the page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144 Hee Jin: ((pause)) nn[o,]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145 Audrey: [no,] okay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146 Hee Jin: aw- i have two hospitals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147 Audrey: oh okay. i only have [one.]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148 Hee Jin: </a:t>
            </a: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          [you ha]ve just one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149 Audrey: yeah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150 Hee Jin: then [uumm.]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151 Audrey:           [where’s your] hospital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152 Hee Jin: ((pause)) then do you have city Zoo? ((short pause)) in the- a little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        right side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153 Audrey: ((pause)) i haaa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154 Hee Jin: ((pause)) city zoo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155 Audrey: nnno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156 Hee Jin: no? then ((short pause)) mmmmm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157 Audrey: ((pause)) i have a caastlle, a church ((short pause)) a house ((short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        pause)) an amusement park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158 Hee Jin: then- uh. you have a churcchh, uuuuhh. ((long pause)) ffff nuh. the la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        right side of the mcdonald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cc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cc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" dur="500" fill="hold"/>
                                        <p:tgtEl>
                                          <p:spTgt spid="11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"/>
          <p:cNvPicPr/>
          <p:nvPr/>
        </p:nvPicPr>
        <p:blipFill>
          <a:blip r:embed="rId1"/>
          <a:srcRect l="0" t="0" r="0" b="8146"/>
          <a:stretch/>
        </p:blipFill>
        <p:spPr>
          <a:xfrm>
            <a:off x="0" y="1077840"/>
            <a:ext cx="9144000" cy="578016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6600" y="277920"/>
            <a:ext cx="7930800" cy="760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udrey’s map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2"/>
          <a:stretch/>
        </p:blipFill>
        <p:spPr>
          <a:xfrm>
            <a:off x="7623000" y="4430880"/>
            <a:ext cx="314640" cy="4572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"/>
          <p:cNvPicPr/>
          <p:nvPr/>
        </p:nvPicPr>
        <p:blipFill>
          <a:blip r:embed="rId3"/>
          <a:srcRect l="0" t="0" r="0" b="8147"/>
          <a:stretch/>
        </p:blipFill>
        <p:spPr>
          <a:xfrm>
            <a:off x="0" y="1120680"/>
            <a:ext cx="9077400" cy="5749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5T15:17:19Z</dcterms:created>
  <dc:creator>Stephanie Lindemann</dc:creator>
  <dc:description/>
  <dc:language>en-US</dc:language>
  <cp:lastModifiedBy>eslsl</cp:lastModifiedBy>
  <dcterms:modified xsi:type="dcterms:W3CDTF">2011-03-22T16:45:12Z</dcterms:modified>
  <cp:revision>56</cp:revision>
  <dc:subject/>
  <dc:title>Slide 1</dc:title>
</cp:coreProperties>
</file>