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94C6-A9F5-403A-A68C-9970E8F6957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421D-DCF3-426D-9393-3A31DC78053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634C-2C12-48CF-A6C3-65A7B2D0CC0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FFC9-A7B6-4173-A989-568E6C92126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7CC3-376E-4C73-9813-434715F44FC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EB68-4F00-441B-AE0F-BFD0A4052F8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452E-EBD8-4CC5-85AD-D6AF26631BB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21D1-03CB-4542-A743-8C468BC4AD6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B764-0D76-492C-AA58-769EAE6E9E0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C128-4FD5-4F6D-BBD4-4C34C4CD12A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6275-C107-4F51-97C0-83CCA090A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47F1-1294-4E97-926F-1F04751A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8A3A-80B1-429B-B226-90F391D6F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6E1E-B58B-4FD1-BE12-3350D3968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0B09-2CB3-4329-B507-692DC1E4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7DB2-E128-48CA-BC4D-15F7FCEA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63DB-ED57-4C6B-91C0-B57B6965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4D41-0A61-4535-8AC3-AD56DCFE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95C6-6A58-4341-8A31-C3878FDB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FB66-2495-4583-BE46-1968F5FF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AD1E-ADEF-4DEE-970D-E378D64E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B209-2B1B-4A53-A5BD-44AA36E6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6BA4-5184-423C-9589-402E106CEF0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0" t="0" r="0" b="8146"/>
          <a:stretch/>
        </p:blipFill>
        <p:spPr>
          <a:xfrm>
            <a:off x="0" y="1077840"/>
            <a:ext cx="9144000" cy="57801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6600" y="277920"/>
            <a:ext cx="7930800" cy="760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native-speaker’s map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7623000" y="4430880"/>
            <a:ext cx="3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rcRect l="0" t="0" r="0" b="8147"/>
          <a:stretch/>
        </p:blipFill>
        <p:spPr>
          <a:xfrm>
            <a:off x="3240" y="1014480"/>
            <a:ext cx="9140760" cy="58435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-speaker’s ma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7591320" y="4351320"/>
            <a:ext cx="3142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3" descr=""/>
          <p:cNvPicPr/>
          <p:nvPr/>
        </p:nvPicPr>
        <p:blipFill>
          <a:blip r:embed="rId1"/>
          <a:stretch/>
        </p:blipFill>
        <p:spPr>
          <a:xfrm>
            <a:off x="0" y="1033560"/>
            <a:ext cx="9144000" cy="578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2976480" y="6037200"/>
            <a:ext cx="685800" cy="507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263600" y="1860480"/>
            <a:ext cx="331920" cy="609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7419960" y="4824360"/>
            <a:ext cx="609480" cy="471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"/>
          <p:cNvPicPr/>
          <p:nvPr/>
        </p:nvPicPr>
        <p:blipFill>
          <a:blip r:embed="rId5"/>
          <a:stretch/>
        </p:blipFill>
        <p:spPr>
          <a:xfrm>
            <a:off x="7623000" y="4383000"/>
            <a:ext cx="314640" cy="4572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6960" y="18864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son of Map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native-speaker’s map only: blue. Native speaker’s map only: re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6600" y="277920"/>
            <a:ext cx="7930800" cy="68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Jea Sun (native Korean speaker)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&amp; Judy (native English speaker)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00320"/>
            <a:ext cx="9144000" cy="55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S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okaay judy, uh, you can start um the left side of the volcano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udy: ohhkay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S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okay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udy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: from start to the volcano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S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yeah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udy: [alright]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7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S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[left] side of the volcano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8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udy: okay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9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S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and then go straight, and turn right. ((pause)) so, you are in front of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the volcano right now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udy: okay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S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and just keep going and you can find… find the fffon, the waterr f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2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udy: the water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S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yeah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4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udy: okay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5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S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and then, you just pass the water fon and make a left turn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6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udy: okay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7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S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annn just go straight? so you can see a plane, ((short pause)) right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now? ((pause)) can you see a airplane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8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udy: a plane? [okay,]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9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S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[yeah-hah.]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2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"/>
          <p:cNvPicPr/>
          <p:nvPr/>
        </p:nvPicPr>
        <p:blipFill>
          <a:blip r:embed="rId1"/>
          <a:srcRect l="0" t="0" r="0" b="8146"/>
          <a:stretch/>
        </p:blipFill>
        <p:spPr>
          <a:xfrm>
            <a:off x="0" y="1077840"/>
            <a:ext cx="9144000" cy="57801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6600" y="277920"/>
            <a:ext cx="7930800" cy="760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dy’s completed map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01" name="Picture 9" descr=""/>
          <p:cNvPicPr/>
          <p:nvPr/>
        </p:nvPicPr>
        <p:blipFill>
          <a:blip r:embed="rId2"/>
          <a:stretch/>
        </p:blipFill>
        <p:spPr>
          <a:xfrm>
            <a:off x="7623000" y="4430880"/>
            <a:ext cx="314640" cy="457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"/>
          <p:cNvPicPr/>
          <p:nvPr/>
        </p:nvPicPr>
        <p:blipFill>
          <a:blip r:embed="rId3"/>
          <a:srcRect l="0" t="0" r="0" b="8147"/>
          <a:stretch/>
        </p:blipFill>
        <p:spPr>
          <a:xfrm>
            <a:off x="25560" y="1108080"/>
            <a:ext cx="9077040" cy="5749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56560" cy="81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Hyo Young (native Korean speaker)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&amp; Sara (native English speaker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720" y="1018800"/>
            <a:ext cx="756288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ara: okay, ((pause))  now where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Y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(pause)) do you have a factor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ara: nnno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Y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okay. from there [((short pause)) (but)]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ara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[is there] a factory there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Y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(short pause)) yeah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7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ara: r- w- right where i stopped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8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Y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ani?) ((short pause)) noo no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9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ara: no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Y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=no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ara: wher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2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Y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from there you go jus- ((short pause)) south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ara: well where where's the factory in relation to the hous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4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Y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(pause)) house, ((pause)) virgil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5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ara: ((pause)) vultur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6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Y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yeah. between them. it's factory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7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ara: but it's like right there, like on that level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8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Y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no. it'ss level of castl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9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ara: level of the castl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20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Y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yeah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21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ara: alright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250" autoRev="1" fill="hold"/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rcRect l="0" t="0" r="0" b="8146"/>
          <a:stretch/>
        </p:blipFill>
        <p:spPr>
          <a:xfrm>
            <a:off x="0" y="1077840"/>
            <a:ext cx="9144000" cy="57801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6600" y="277920"/>
            <a:ext cx="7930800" cy="760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ra’s completed map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7623000" y="4430880"/>
            <a:ext cx="314640" cy="457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3"/>
          <a:srcRect l="0" t="0" r="0" b="8147"/>
          <a:stretch/>
        </p:blipFill>
        <p:spPr>
          <a:xfrm>
            <a:off x="0" y="1057320"/>
            <a:ext cx="9077400" cy="574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2800" y="-36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Hee Jin (native Korean speaker)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&amp; Audrey (native English speaker)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771120"/>
            <a:ext cx="9144000" cy="60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140 Hee Jin: turn to the right? and can you see hospital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141 Audrey: uuhm the cross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142 Hee Jin: ((pause)) [yeah. cross,]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143 Audrey: 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          [is it a cross] all the way on the other s- on the right side of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        the page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144 Hee Jin: ((pause)) nn[o,]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145 Audrey: [no,] okay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146 Hee Jin: aw- i have two hospitals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147 Audrey: oh okay. i only have [one.]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148 Hee Jin: 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          [you ha]ve just one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149 Audrey: yeah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150 Hee Jin: then [uumm.]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151 Audrey:           [where’s your] hospital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152 Hee Jin: ((pause)) then do you have city Zoo? ((short pause)) in the- a littl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        right side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153 Audrey: ((pause)) i haaa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154 Hee Jin: ((pause)) city zoo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155 Audrey: nnn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156 Hee Jin: no? then ((short pause)) mmmmm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157 Audrey: ((pause)) i have a caastlle, a church ((short pause)) a house ((shor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        pause)) an amusement park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158 Hee Jin: then- uh. you have a churcchh, uuuuhh. ((long pause)) ffff nuh. the la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        right side of the mcdonald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500" fill="hold"/>
                                        <p:tgtEl>
                                          <p:spTgt spid="11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rcRect l="0" t="0" r="0" b="8146"/>
          <a:stretch/>
        </p:blipFill>
        <p:spPr>
          <a:xfrm>
            <a:off x="0" y="1077840"/>
            <a:ext cx="9144000" cy="5780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6600" y="277920"/>
            <a:ext cx="7930800" cy="760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drey’s map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7623000" y="4430880"/>
            <a:ext cx="314640" cy="457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3"/>
          <a:srcRect l="0" t="0" r="0" b="8147"/>
          <a:stretch/>
        </p:blipFill>
        <p:spPr>
          <a:xfrm>
            <a:off x="0" y="1120680"/>
            <a:ext cx="9077400" cy="574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15:17:19Z</dcterms:created>
  <dc:creator>Stephanie Lindemann</dc:creator>
  <dc:description/>
  <dc:language>en-US</dc:language>
  <cp:lastModifiedBy>eslsl</cp:lastModifiedBy>
  <dcterms:modified xsi:type="dcterms:W3CDTF">2011-03-22T16:45:12Z</dcterms:modified>
  <cp:revision>56</cp:revision>
  <dc:subject/>
  <dc:title>Slide 1</dc:title>
</cp:coreProperties>
</file>